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D4BB-38BD-4AFB-80B3-7158526616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Ideal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Ideal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government is communistic sty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rs choose their own success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in power until their successor is tra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ntrol all committees that rule li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one knows every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eople would be the same sta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s are released after the third offen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government is communistic sty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rs choose their own success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in power until their successor is tra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ntrol all committees that rule li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one knows every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eople would be the same sta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s are released after the third offen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y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uses are assigned by a committee after people apply for one and are observed to determine the best cho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amilies will have one son and one daugh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are responsible to train their children to live in the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hildren move out on their own, parents go live in with other ‘childless adults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y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uses are assigned by a committee after people apply for one and are observed to determine the best cho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amilies will have one son and one daugh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are responsible to train their children to live in the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hildren move out on their own, parents go live in with other ‘childless adults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Arrang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ouses look exactly the same, with identical yards, furnitur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family has their own home, but it is owned by the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es are assigned to living quar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es stay in one home until the children move out, then they all move to various pl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Arrang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ouses look exactly the same, with identical yards, furnitur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family has their own home, but it is owned by the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es are assigned to living quar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es stay in one home until the children move out, then they all move to various pl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bs/Care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ults are assigned careers by a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tart training at age 12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jobs are equal, but do create minor sta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nsation comes in the form of food and hou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ing at age 12, all people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bs/Care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ults are assigned careers by a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tart training at age 12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jobs are equal, but do create minor sta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nsation comes in the form of food and hou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ing at age 12, all people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are separated by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takes up most of the day, followed by recreation or volunteer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begin school at age three, and continue until 12 when they begin training for their jo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ipline is enforced by a disciplining wand, used to swat a child on the back of the kn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are separated by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takes up most of the day, followed by recreation or volunteer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begin school at age three, and continue until 12 when they begin training for their jo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ipline is enforced by a disciplining wand, used to swat a child on the back of the kn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dlers begin life by staying in the nurturing center until they are assigned famil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work day, they stay in day care centers where they learn the rules, how to talk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disciplined with a wand as soon as they can w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dlers begin life by staying in the nurturing center until they are assigned famil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work day, they stay in day care centers where they learn the rules, how to talk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disciplined with a wand as soon as they can w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one has a bike that they use to get from place to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ceive their bike at age 9.  Before that they either walk or ride on the back of their parents’ bik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one has a bike that they use to get from place to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ceive their bike at age 9.  Before that they either walk or ride on the back of their parents’ bik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p of the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p of the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4CDD-2304-4418-B59D-A47322BD4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557E-18C9-450E-A0D2-F2619B84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BE0A-47D4-4B1E-B91A-661E59F4C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9A90-4087-43F3-A62B-83F18F341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862E-97A3-4AA1-A640-711AB46D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3B99-779B-473D-BDDA-AA2BF249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D9CF-F8EC-4E96-B166-56B1E64D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5514-5CCA-422C-AAE2-E09C7510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654A-A67D-408D-9772-DB914DF3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0549-AACC-4931-8539-5AF5668B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A8EF-6BB6-47AF-9FDE-D99AE744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64D1-0042-4024-B179-2B80BF55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6D0C-183B-41E3-8F10-A8ABBDFA7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The Ideal Soc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bd04912_"/>
          <p:cNvPicPr/>
          <p:nvPr/>
        </p:nvPicPr>
        <p:blipFill>
          <a:blip r:embed="rId1"/>
          <a:stretch/>
        </p:blipFill>
        <p:spPr>
          <a:xfrm>
            <a:off x="3048120" y="2286000"/>
            <a:ext cx="2773080" cy="3463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is government is communistic sty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Rulers choose their own success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y are in power until their successor is trai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y control all committees that rule li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veryone knows every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ll people would be the same sta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riminals are released after the third offen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bd05015_"/>
          <p:cNvPicPr/>
          <p:nvPr/>
        </p:nvPicPr>
        <p:blipFill>
          <a:blip r:embed="rId1"/>
          <a:stretch/>
        </p:blipFill>
        <p:spPr>
          <a:xfrm>
            <a:off x="1371600" y="457200"/>
            <a:ext cx="138420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Times New Roman"/>
              </a:rPr>
              <a:t>Family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Spouses are assigned by a committee after people apply for one and are observed to determine the best cho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All families will have one son and one daugh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Parents are responsible to train their children to live in the socie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When children move out on their own, parents go live in with other ‘childless adults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pe02622_"/>
          <p:cNvPicPr/>
          <p:nvPr/>
        </p:nvPicPr>
        <p:blipFill>
          <a:blip r:embed="rId1"/>
          <a:stretch/>
        </p:blipFill>
        <p:spPr>
          <a:xfrm>
            <a:off x="6095880" y="380880"/>
            <a:ext cx="1898640" cy="1540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Living Arrang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All houses look exactly the same, with identical yards, furniture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Each family has their own home, but it is owned by the socie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Families are assigned to living quar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Families stay in one home until the children move out, then they all move to various pla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bl00381_"/>
          <p:cNvPicPr/>
          <p:nvPr/>
        </p:nvPicPr>
        <p:blipFill>
          <a:blip r:embed="rId1"/>
          <a:stretch/>
        </p:blipFill>
        <p:spPr>
          <a:xfrm>
            <a:off x="3048120" y="0"/>
            <a:ext cx="2361960" cy="13208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9900"/>
                </a:solidFill>
                <a:latin typeface="Times New Roman"/>
              </a:rPr>
              <a:t>Jobs/Care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dults are assigned careers by a committ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They start training at age 12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ll jobs are equal, but do create minor stat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Compensation comes in the form of food and hous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tarting at age 12, all people 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pe02002_"/>
          <p:cNvPicPr/>
          <p:nvPr/>
        </p:nvPicPr>
        <p:blipFill>
          <a:blip r:embed="rId1"/>
          <a:stretch/>
        </p:blipFill>
        <p:spPr>
          <a:xfrm>
            <a:off x="1066680" y="304920"/>
            <a:ext cx="1825920" cy="1828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bs00508_"/>
          <p:cNvPicPr/>
          <p:nvPr/>
        </p:nvPicPr>
        <p:blipFill>
          <a:blip r:embed="rId2"/>
          <a:stretch/>
        </p:blipFill>
        <p:spPr>
          <a:xfrm>
            <a:off x="6477120" y="304920"/>
            <a:ext cx="1574640" cy="1662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Sch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hildren are separated by 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School takes up most of the day, followed by recreation or volunteer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hildren begin school at age three, and continue until 12 when they begin training for their jo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Discipline is enforced by a disciplining wand, used to swat a child on the back of the kne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pe03254_"/>
          <p:cNvPicPr/>
          <p:nvPr/>
        </p:nvPicPr>
        <p:blipFill>
          <a:blip r:embed="rId1"/>
          <a:stretch/>
        </p:blipFill>
        <p:spPr>
          <a:xfrm>
            <a:off x="6019920" y="762120"/>
            <a:ext cx="1406520" cy="126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Times New Roman"/>
              </a:rPr>
              <a:t>Toddl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Toddlers begin life by staying in the nurturing center until they are assigned famil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During the work day, they stay in day care centers where they learn the rules, how to talk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They are disciplined with a wand as soon as they can wal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pe02043_"/>
          <p:cNvPicPr/>
          <p:nvPr/>
        </p:nvPicPr>
        <p:blipFill>
          <a:blip r:embed="rId1"/>
          <a:stretch/>
        </p:blipFill>
        <p:spPr>
          <a:xfrm>
            <a:off x="380880" y="533520"/>
            <a:ext cx="12002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Transpor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Everyone has a bike that they use to get from place to pl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They receive their bike at age 9.  Before that they either walk or ride on the back of their parents’ bi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bd07304_"/>
          <p:cNvPicPr/>
          <p:nvPr/>
        </p:nvPicPr>
        <p:blipFill>
          <a:blip r:embed="rId1"/>
          <a:stretch/>
        </p:blipFill>
        <p:spPr>
          <a:xfrm>
            <a:off x="5486400" y="4572000"/>
            <a:ext cx="1822320" cy="18129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The-Giver-Map"/>
          <p:cNvPicPr/>
          <p:nvPr/>
        </p:nvPicPr>
        <p:blipFill>
          <a:blip r:embed="rId1"/>
          <a:stretch/>
        </p:blipFill>
        <p:spPr>
          <a:xfrm>
            <a:off x="533520" y="1752480"/>
            <a:ext cx="8305560" cy="38084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1981080" y="68580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A map of the socie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3T17:03:22Z</dcterms:created>
  <dc:creator>khicks</dc:creator>
  <dc:description>The Ideal Society</dc:description>
  <cp:keywords>The Ideal Society</cp:keywords>
  <dc:language>en-US</dc:language>
  <cp:lastModifiedBy>RomaK</cp:lastModifiedBy>
  <dcterms:modified xsi:type="dcterms:W3CDTF">2015-09-04T10:39:29Z</dcterms:modified>
  <cp:revision>19</cp:revision>
  <dc:subject>The Ideal Society</dc:subject>
  <dc:title>The Ideal Society</dc:title>
</cp:coreProperties>
</file>